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0391-5660-4303-A771-5F0FCB2313BC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84EC-AEC2-467A-9C35-A669D7D202B9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21D3-AAF6-42EC-AB3C-1B10CABF021F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5B1D-B46F-416C-9D2E-54057961908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52CD-D2F7-443C-8076-AFB02621E14A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BEF9-B074-4AB9-B65B-AC41F8075BDD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1115-BE95-4DE6-8387-67C3EFAC085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794B-A02C-4EC2-8F0F-CBEACD3A665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2148-DB6A-4645-8E0C-A6662D7A03F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7EDB-9B65-4C84-A88C-23CDD862989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5EA0-77D0-4A01-933D-361D72605E0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6D68-E5AE-4A8F-B630-D6F2B8729E89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1909-E501-4CD8-A171-6F645AAE8E2E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4620-1A6F-4CE9-A5A7-F308618C481A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AB11-18EF-4428-B49E-8B8927398906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B0BC-37B7-4F05-B0DC-43488F664CF1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AC6D-802C-4567-A5DF-8EA65D1C2698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384984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16E5-78A1-447B-BBCB-A440F9AC72EE}" type="slidenum"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96B2-3506-45F1-86DF-A9D082A77E34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8FCF-8CE4-4239-B0F3-E445CDBCBF6A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384984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CFBA-DC48-429A-8639-F9628EDA104B}" type="slidenum"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CF70-8341-43E8-AD0A-3B8F70BE2358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A9F6-19D3-4619-A35C-270D8C7823D2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66B4-B3A2-4DFB-86DA-C098C442EF0C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22D6-B0D8-4629-AFB5-BE58848D7C17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C338-5F2E-4AC3-BA74-7EC0C60F86D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0632-7E2D-484E-AB0D-68F8DE83BFB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C24F-638A-41B3-8686-20D70139648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4297-FACF-42D1-9CFC-D35B4062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956-7A9D-48AA-BDA5-B428600E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1FBC4-10A3-45F2-8C78-B446E8DC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543CA-9136-4326-8190-CD34D769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AD1F2-8878-471F-AD42-85E5D37E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80881-6BF3-484D-B776-D1CFA83E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FA00A-F1A7-40E1-ACEF-7CBC2C62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A9364-5908-4DD3-AB35-8B6D4D85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707FF-806F-4A95-B12F-FB7A9CFE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5FA25-B7F3-442D-97B6-EA1A1B2E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235CD-D2AA-4D79-BEF6-F01DE3F2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03E11-B4F2-4E40-BD86-2C4BC28C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CFBB-395F-45EE-9AD0-E79C4DB0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445FB-2FDA-4F2C-8ACA-378AC39F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6F388-B72F-4491-9346-6AF8AC5F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2CE75-40A5-4CCA-8E77-B25C5CCB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903BD-A828-4557-82BA-CC006C51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352A5-9241-4397-A074-ABB5F53D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EFC69-A287-4206-9C5B-CE51F0BD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E14DB-1E01-4569-A535-59D20542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FD933-FB47-480A-9F56-F765E7EB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275C1-E020-48CC-B7F9-4C059917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7B006-C4B6-4014-B1DE-86C5A968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AAB-0155-4BD8-9C46-9FFFA2DC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D21BB-8490-48BA-9CA0-FCD38F33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8447A-F71D-42F6-B4FA-F50EE67C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74C62-58B2-4B42-A7F3-EFF17739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6909D-E772-4EA5-A90C-4CDC787A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46E58-3864-44DA-B02E-AE5BD438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9C616-2E39-4B6B-BBC1-C130BC42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BC471-11B1-41E0-BEC4-E20A0D04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2DC58-F390-4165-B1F5-2E3315EF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1346D-7B19-4691-B505-16892F74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D2A57-490A-4191-857C-5542B67E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5885-F5BE-4E17-9930-2030CA35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ABAD5-0E50-4DCC-81FB-368A03C3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C1B47-7626-48E1-8BAE-6C9CC8D2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C5436-27DC-4373-B9DF-83584D2F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2188-186F-436D-9815-80145C07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B8BC-5D54-4656-A407-C9693273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74CB-224B-4759-9937-2DCD180C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8FED-1478-49BD-AAD9-68464720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70E5-115D-4C90-84BA-24923FC7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2A85-D5F9-44D8-B9D5-D358FFAA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AA3-3633-406B-A897-5DF33F56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B7FD-56BE-4544-84A3-7260A919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CF57-423C-4415-8F24-DBFF886B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708F-4889-41CB-9A42-BE5F8C68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462A-B7B0-4598-B81C-F2CD3EC6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E350-6A91-4064-A6B7-30F6966E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C8712-E6F3-463F-A93F-27EA9A47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BB3BE-5812-462D-B5AA-76C2AFF7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08DBA-EE0E-41DB-A718-3117F93D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B1739-B024-40CA-A50C-1F4E38C3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DD307-6E25-4B36-85F3-FA764389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A9C2-696A-4AB9-9B11-0EDE1CBB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6A8D2-9C66-466E-8C3C-061E3424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A9CC6-87ED-4BD4-9B65-C07FEA9B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CA6BA-F579-42DB-9A19-789705C6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45C02-C5E0-4CF1-BF44-8E1C3AEF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16362-BDA0-47A4-9CCB-FCD46799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51407-E4E6-407A-9111-4F99228A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1A654-8E74-4DDA-B5DF-9A48343E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87BA8-81F3-4552-95A9-D7A4EF25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00E2D-4BE8-44FD-8F86-23366E12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C2F2A-CE98-4227-A49C-AC0A7A82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0B4-88E0-48E7-9112-FECE62B4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CEA8E-DAC5-43FD-A253-444144F5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26926-8090-4D88-A751-F476C9E3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D19E1-5873-4497-9A96-7CF2E833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4998B-521D-43A3-BCEA-C81B81E4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19899-6A9A-4372-AF2A-F6D04B7E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E9BB4-69D6-416A-A063-71C95967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04C3A-3E7E-4203-9A29-33F01E2B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0B6D2-0A19-4F17-BAB2-7D964D41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3E69A-F9E3-47E1-A1F2-463BCEC6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966ED-8D7D-4F23-8984-6A550625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B1D-0649-4E15-B29D-6204CBBB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99CB8-B7A4-4F4A-A1F8-1F48D9B8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4AC4A-5CFA-410B-988B-A3621630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6501C-AD80-4235-8CE3-1FA126A0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7EE6C-B555-4515-B73F-431DD12E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E8724-B9A0-49D2-A484-6A4071F0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8BBEE-818E-4213-A327-0E2A3828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6B5A9-7B1D-4004-AE9A-53DB1B1C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8982C-2E06-443B-B212-C7D072DB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325CA-D409-49A8-8122-C98ECF74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F4C96-838F-4ABC-9AF5-4F760F27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A273-D323-4173-B3FD-E219A524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61FB2-3E5D-4AA3-9196-1F7752E6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4C181-5122-482F-9782-E671256B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67A53-1A9C-4EE1-8C4B-0408F73D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4BD19-CEAB-431B-8E83-84C44778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33C1A-0DF3-48CD-A1E6-C3CDA1F6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DB1DD-AF49-4E2F-A642-5A5E2F2F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F295C-B386-41FA-9CC7-3D40DEC1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A50FF-8AB7-4CAF-915E-468D4BA2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31152-4D43-4319-B2F4-12E6B05F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476B8-AB91-45F3-A78F-020F17DA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1682-FFD2-4505-81E4-E5DA444D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50DD1-0DA8-462A-B992-AC291834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B2B58-1A5B-4F9A-9C7A-11E3D5D4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9D5F9-9D20-4CED-996D-08BBAB5C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8243E-AAF2-4B1A-9E6D-6415D7A3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4CDC1-6F36-4410-9C78-F9D76130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F6EC2-8FA6-477E-A086-EF293A82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8F112-5751-490B-8283-19B6BA81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CEC8E-A12D-4085-A5CE-28D42695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33A16-1ADF-41CE-AF00-38BD2260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8976E-6D5B-4912-B7B0-4D30B4E0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646C-5412-44CF-8019-C72E19F8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9664C-EED5-4F7D-9CC2-D76C3C78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30609-4A41-4780-8BCD-208EF79C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73393-7EDF-4D97-A6A0-FFC5F7B2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FE194-DD5B-4543-A24E-859D0596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16AB0-0D6D-4654-84AD-FED9BEED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CE668-A412-44A0-A758-988D87A2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8B827-1FB6-42A8-B09B-61CF9FEF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C1DC8-9789-4948-B28B-C8B4AEEE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F8F8F-9F98-4756-B6AA-5BDB41AF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32204-3E19-48D1-8A5E-CBAB907D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72EA-15A6-4006-B205-CCE69658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9C71C-4CCC-48BE-88C0-12B477D5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11784-E139-4B59-82E4-94500DE4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114B2-3474-430E-A073-77A4EE27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44B14-3AE2-46F2-B944-EF050BC8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EDF2C-6028-4971-A264-3A616774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00030-2FA4-4599-966E-16DB8635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82DC0-7B59-44D4-8EF5-C36F51D5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D7A51-2747-4688-9C29-A0B779F3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A35A5-2521-4041-99B7-D5CEE813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B19D9-B307-4049-B662-0BC342AA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CEC06805-2675-4218-A19F-AB1340957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6D83F8D4-46E6-475A-99E5-8D659DF0BA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7C483E1C-B3C9-48F5-BACC-320F5C6411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9DEC503B-CFBD-46BC-969F-FB20EFA020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9060631E-5037-433B-8483-D5F5D8A19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2D24599A-D5A5-4D08-B021-2D5A2A3554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28258E65-33FF-4BFD-B2C3-11E8B6F4AE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9AF17BA1-AFE1-4CF9-9E11-091078EDB8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91C46CBA-EE5F-4AE7-A26D-F37F11380A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91B51B07-D591-4CA6-9D81-6B76925BD2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C4E397A4-51F3-450C-997A-1BC5459F02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Immagine 9" descr="Foto di Apertura"/>
          <p:cNvPicPr/>
          <p:nvPr/>
        </p:nvPicPr>
        <p:blipFill>
          <a:blip r:embed="rId1"/>
          <a:stretch/>
        </p:blipFill>
        <p:spPr>
          <a:xfrm>
            <a:off x="0" y="0"/>
            <a:ext cx="9142560" cy="68612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"/>
          <p:cNvPicPr/>
          <p:nvPr/>
        </p:nvPicPr>
        <p:blipFill>
          <a:blip r:embed="rId2"/>
          <a:stretch/>
        </p:blipFill>
        <p:spPr>
          <a:xfrm>
            <a:off x="3216240" y="771480"/>
            <a:ext cx="2652840" cy="346572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66">
                <a:alpha val="75000"/>
              </a:srgbClr>
            </a:outerShdw>
          </a:effectLst>
        </p:spPr>
      </p:pic>
      <p:sp>
        <p:nvSpPr>
          <p:cNvPr id="515" name="Rectangle 3"/>
          <p:cNvSpPr/>
          <p:nvPr/>
        </p:nvSpPr>
        <p:spPr>
          <a:xfrm>
            <a:off x="725400" y="4311720"/>
            <a:ext cx="7678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1° Repar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154080" y="6427800"/>
            <a:ext cx="2473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8440" tIns="0" bIns="0" anchor="t">
            <a:noAutofit/>
          </a:bodyPr>
          <a:p>
            <a:pPr marL="25560" algn="ctr">
              <a:spcBef>
                <a:spcPts val="37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en-US" sz="1500" spc="-1" strike="noStrike">
                <a:solidFill>
                  <a:srgbClr val="ffff00"/>
                </a:solidFill>
                <a:latin typeface="Arial"/>
              </a:rPr>
              <a:t>Roma, 30-31 ottobre 2012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0"/>
          <p:cNvSpPr/>
          <p:nvPr/>
        </p:nvSpPr>
        <p:spPr>
          <a:xfrm>
            <a:off x="-14400" y="4871880"/>
            <a:ext cx="9172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Arial"/>
              </a:rPr>
              <a:t>Progetto di Riordino dello Strumento Militare Naziona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99"/>
                </a:solidFill>
                <a:latin typeface="Arial"/>
              </a:rPr>
              <a:t>INCONTRO CON I RAPPRESENTANTI NAZIONALI DELLE OO.S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GIÀ PREVISTI  DAL DLGS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826920" y="1446120"/>
          <a:ext cx="7643880" cy="3206880"/>
        </p:xfrm>
        <a:graphic>
          <a:graphicData uri="http://schemas.openxmlformats.org/drawingml/2006/table">
            <a:tbl>
              <a:tblPr/>
              <a:tblGrid>
                <a:gridCol w="1641600"/>
                <a:gridCol w="1859040"/>
                <a:gridCol w="1143000"/>
                <a:gridCol w="1428840"/>
                <a:gridCol w="1571400"/>
              </a:tblGrid>
              <a:tr h="76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° RMV SIGONELL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OSTA RICONFIGURAZIONE MANUTENZIONE ALTRI SISTEMI D’ARM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OSPES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IGENZA DI RICONVERSIONE PROFESSIONA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 GM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L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OSTA RIDIMENSIONAMENTO/RILOCAZIONE (2020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ATTIVAZIONE FASE  REIMPIEGO ALL’ATTO DELLA AUTORIZZAZIONE ALLA RILOC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700" spc="-1" strike="noStrike">
                <a:solidFill>
                  <a:srgbClr val="ffff00"/>
                </a:solidFill>
                <a:latin typeface="Arial"/>
              </a:rPr>
              <a:t>STATUS RIORDIN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666720" y="3710160"/>
            <a:ext cx="800100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 marL="1619280" indent="-1619280">
              <a:spcBef>
                <a:spcPts val="1250"/>
              </a:spcBef>
              <a:tabLst>
                <a:tab algn="l" pos="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osto 2012 : trasmissione allo SMD dell’elenco aggiornato dei provvedimenti da attuarsi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ttangolo 3"/>
          <p:cNvSpPr/>
          <p:nvPr/>
        </p:nvSpPr>
        <p:spPr>
          <a:xfrm>
            <a:off x="1143000" y="1433520"/>
            <a:ext cx="7000920" cy="10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just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PROVVEDIMENTI  REVISIONE STRUMENTO MILITA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2012/2015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ctr">
              <a:spcBef>
                <a:spcPts val="34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(ELEMENTI DI ORGANIZZAZIONE CON PP.OO. PERSONALE CIVIL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500040" y="771480"/>
          <a:ext cx="8072640" cy="330984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.P. BARI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SU MEDESIMO SEDIM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CORD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IMPIEGO SU NUOVI EDO  STESSO SEDIME (Infermerie di corpo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.P. MILANO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. DI CORPO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. POL. POZZUOLI* (sedi di Pozzuoli, Caserta, Capodichino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SU MEDESIMI SEDIMI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6-0-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CORD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IMPIEGO SU NUOVI EDO  STESSI SEDIMI (Infermerie di corpo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. SANITARIA D’APPELLO – ROMA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00040" y="4362480"/>
          <a:ext cx="8072640" cy="135252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° STD VENEZ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ANO IN FASE ELABOR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° STD FINALE LIGU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ALBENGA DELLA DITTA PIAGGI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/2013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8" name="CasellaDiTesto 2"/>
          <p:cNvSpPr/>
          <p:nvPr/>
        </p:nvSpPr>
        <p:spPr>
          <a:xfrm>
            <a:off x="441360" y="4076640"/>
            <a:ext cx="38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ATTUATIVI DAL 1° NOVEMBRE 20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500040" y="1004760"/>
          <a:ext cx="8072640" cy="320040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REZ. AMM. BAR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ROMA PAL.AM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FF.DISTACC COMM.TO BAR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°UFF REP AMMINISTR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CIAMPIN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REPARTO GENIO MILA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VILLAFRANC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500040" y="4330800"/>
          <a:ext cx="8072640" cy="117000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° GrRAM POGGIO BALL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4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 D.C. MONTEROTOND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GUIDON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500040" y="907920"/>
          <a:ext cx="8072640" cy="399420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 DC GALLARA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DELLE FUNZIONI AL 1° RMV (entro 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°STORMO PIACENZ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°STORMO VILLAFRANC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ITO SN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 (NEI SN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EVIS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ITO SN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 (NEI SN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UPPO RIFORNIMENTI TORRICOL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SU BORGO PIAV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541440" y="809640"/>
          <a:ext cx="8072280" cy="146376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280"/>
                <a:gridCol w="1500480"/>
                <a:gridCol w="171432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. AEROP. VIGNA VA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rvizio Amministrativ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MBIO DIPENDENZ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l Comando Aeroporto al COMAE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NTENIMENTO PRESSO ARTICOL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546120" y="2505240"/>
          <a:ext cx="8072280" cy="109836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321444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NO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EPV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ITU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DO SOVRAORDINATO AL COMANDO AEROPORTO CAMERI E AL 1° RM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549360" y="3762360"/>
          <a:ext cx="8072280" cy="177336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608120"/>
                <a:gridCol w="1606320"/>
              </a:tblGrid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NSR MONTE CAV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Q. TLC CIAMPI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 BORGO PIAV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00040" y="1127160"/>
          <a:ext cx="8072640" cy="4487760"/>
        </p:xfrm>
        <a:graphic>
          <a:graphicData uri="http://schemas.openxmlformats.org/drawingml/2006/table">
            <a:tbl>
              <a:tblPr/>
              <a:tblGrid>
                <a:gridCol w="2328840"/>
                <a:gridCol w="1940040"/>
                <a:gridCol w="1241280"/>
                <a:gridCol w="1243080"/>
                <a:gridCol w="1319400"/>
              </a:tblGrid>
              <a:tr h="639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. AEROP. VIGNA VA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z. Mostre - Roma Urb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VIGNA DI VA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7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7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CCAMENTO AEROPORTUALE PANTELLE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3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Z. SMISTAMENTO AREA NORD BAGGI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EROP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UNI SARZA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DIMENSIONA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SVZ TEC. DIST. CASE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ZIONAL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entro 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SVZ TEC. DIST. TORI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CLEO DIST. CASE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 AL 1° NOVEMBRE 2012. FUNZIONI RILOCATE AL 1° RMV CAMER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4"/>
          <p:cNvSpPr/>
          <p:nvPr/>
        </p:nvSpPr>
        <p:spPr>
          <a:xfrm>
            <a:off x="1042920" y="5713560"/>
            <a:ext cx="1603440" cy="457200"/>
          </a:xfrm>
          <a:prstGeom prst="rightArrow">
            <a:avLst>
              <a:gd name="adj1" fmla="val 50000"/>
              <a:gd name="adj2" fmla="val 8767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24"/>
          <p:cNvSpPr/>
          <p:nvPr/>
        </p:nvSpPr>
        <p:spPr>
          <a:xfrm rot="5400000">
            <a:off x="4697640" y="3373920"/>
            <a:ext cx="442800" cy="552600"/>
          </a:xfrm>
          <a:prstGeom prst="rightArrow">
            <a:avLst>
              <a:gd name="adj1" fmla="val 50000"/>
              <a:gd name="adj2" fmla="val 59296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 vert="eaVert" rot="10800000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632600" y="4221000"/>
            <a:ext cx="660600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IPOTESI NUOVA QUOTA AM = DA DEFINI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1979640" y="1700280"/>
            <a:ext cx="5977080" cy="15109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a2dc"/>
                </a:solidFill>
                <a:latin typeface="Arial"/>
              </a:rPr>
              <a:t>Quota dotazioni organiche ipotizzata AM </a:t>
            </a: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4.485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(prima della norma “spending review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2676960" y="5734080"/>
            <a:ext cx="499032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F.E.O.  A.M. al 29 ott 2012 = 4.42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24"/>
          <p:cNvSpPr/>
          <p:nvPr/>
        </p:nvSpPr>
        <p:spPr>
          <a:xfrm>
            <a:off x="642960" y="2013120"/>
            <a:ext cx="1123920" cy="417240"/>
          </a:xfrm>
          <a:prstGeom prst="rightArrow">
            <a:avLst>
              <a:gd name="adj1" fmla="val 50000"/>
              <a:gd name="adj2" fmla="val 6734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2508480" y="1785960"/>
            <a:ext cx="5671800" cy="8650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Avvio studi definizione/ottimizz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dei moduli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24"/>
          <p:cNvSpPr/>
          <p:nvPr/>
        </p:nvSpPr>
        <p:spPr>
          <a:xfrm>
            <a:off x="642960" y="3070080"/>
            <a:ext cx="1123920" cy="417600"/>
          </a:xfrm>
          <a:prstGeom prst="rightArrow">
            <a:avLst>
              <a:gd name="adj1" fmla="val 50000"/>
              <a:gd name="adj2" fmla="val 6728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2195640" y="2924280"/>
            <a:ext cx="4805280" cy="8650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Revisione TOO già avvia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Tenendo presen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24"/>
          <p:cNvSpPr/>
          <p:nvPr/>
        </p:nvSpPr>
        <p:spPr>
          <a:xfrm rot="5400000">
            <a:off x="2465640" y="4021560"/>
            <a:ext cx="442800" cy="552600"/>
          </a:xfrm>
          <a:prstGeom prst="rightArrow">
            <a:avLst>
              <a:gd name="adj1" fmla="val 50000"/>
              <a:gd name="adj2" fmla="val 5912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 vert="eaVert" rot="10800000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116000" y="4869000"/>
            <a:ext cx="2608200" cy="86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p.oo. vaca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e non funzion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24"/>
          <p:cNvSpPr/>
          <p:nvPr/>
        </p:nvSpPr>
        <p:spPr>
          <a:xfrm rot="5400000">
            <a:off x="6571440" y="3950640"/>
            <a:ext cx="442800" cy="552240"/>
          </a:xfrm>
          <a:prstGeom prst="rightArrow">
            <a:avLst>
              <a:gd name="adj1" fmla="val 50000"/>
              <a:gd name="adj2" fmla="val 5912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 vert="eaVert" rot="10800000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5512680" y="4653000"/>
            <a:ext cx="2620800" cy="1288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p.oo. non funz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nel disegn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ordinativo futu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24"/>
          <p:cNvSpPr/>
          <p:nvPr/>
        </p:nvSpPr>
        <p:spPr>
          <a:xfrm>
            <a:off x="642960" y="3070080"/>
            <a:ext cx="1123920" cy="417600"/>
          </a:xfrm>
          <a:prstGeom prst="rightArrow">
            <a:avLst>
              <a:gd name="adj1" fmla="val 50000"/>
              <a:gd name="adj2" fmla="val 6728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2865600" y="2637000"/>
            <a:ext cx="4227480" cy="12888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Circolare ordinativ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aggiornamento TOO 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al 30 giugno 201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SCOPO DELLA RIUNION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ttangolo 3"/>
          <p:cNvSpPr/>
          <p:nvPr/>
        </p:nvSpPr>
        <p:spPr>
          <a:xfrm>
            <a:off x="826920" y="1628640"/>
            <a:ext cx="770580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650"/>
              </a:spcBef>
              <a:spcAft>
                <a:spcPts val="150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Informare le OO.SS. circa il progetto di riordino dell’AM, in senso riduttivo, indicando i possibili provvedimenti da adottare nel periodo 2012-2015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650"/>
              </a:spcBef>
              <a:spcAft>
                <a:spcPts val="150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Illustrare e aggiornare sulle linee di indirizzo per l’impiego del personale civile anche alla luce delle nuove dotazioni organiche in via di defini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24"/>
          <p:cNvSpPr/>
          <p:nvPr/>
        </p:nvSpPr>
        <p:spPr>
          <a:xfrm>
            <a:off x="571680" y="2644920"/>
            <a:ext cx="1123920" cy="417240"/>
          </a:xfrm>
          <a:prstGeom prst="rightArrow">
            <a:avLst>
              <a:gd name="adj1" fmla="val 50000"/>
              <a:gd name="adj2" fmla="val 6734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2425320" y="2631960"/>
            <a:ext cx="572364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Mantenimento/riduzione attuale F.E.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24"/>
          <p:cNvSpPr/>
          <p:nvPr/>
        </p:nvSpPr>
        <p:spPr>
          <a:xfrm>
            <a:off x="571680" y="3701880"/>
            <a:ext cx="1123920" cy="417600"/>
          </a:xfrm>
          <a:prstGeom prst="rightArrow">
            <a:avLst>
              <a:gd name="adj1" fmla="val 50000"/>
              <a:gd name="adj2" fmla="val 6728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2453040" y="3703680"/>
            <a:ext cx="5452200" cy="8650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rivilegiare professionalità pregi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(area tec.-manutentiva, etc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Immagine 9" descr="Foto di Apertura"/>
          <p:cNvPicPr/>
          <p:nvPr/>
        </p:nvPicPr>
        <p:blipFill>
          <a:blip r:embed="rId1"/>
          <a:stretch/>
        </p:blipFill>
        <p:spPr>
          <a:xfrm>
            <a:off x="0" y="0"/>
            <a:ext cx="9142560" cy="68612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"/>
          <p:cNvPicPr/>
          <p:nvPr/>
        </p:nvPicPr>
        <p:blipFill>
          <a:blip r:embed="rId2"/>
          <a:stretch/>
        </p:blipFill>
        <p:spPr>
          <a:xfrm>
            <a:off x="3216240" y="771480"/>
            <a:ext cx="2652840" cy="346572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66">
                <a:alpha val="75000"/>
              </a:srgbClr>
            </a:outerShdw>
          </a:effectLst>
        </p:spPr>
      </p:pic>
      <p:pic>
        <p:nvPicPr>
          <p:cNvPr id="585" name="Rettangolo 6" descr=""/>
          <p:cNvPicPr/>
          <p:nvPr/>
        </p:nvPicPr>
        <p:blipFill>
          <a:blip r:embed="rId3"/>
          <a:stretch/>
        </p:blipFill>
        <p:spPr>
          <a:xfrm>
            <a:off x="743040" y="4376880"/>
            <a:ext cx="7657920" cy="1596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ttangolo 3"/>
          <p:cNvSpPr/>
          <p:nvPr/>
        </p:nvSpPr>
        <p:spPr>
          <a:xfrm>
            <a:off x="611280" y="1285920"/>
            <a:ext cx="816444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Introduzio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Status Riordi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Provvedimenti da attu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Linee di indirizzo sull’ordinamento e impiego del personale civi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Conclusio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INTRODUZION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2000160" y="1643040"/>
            <a:ext cx="521496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RIORGANIZZAZIONE DIFE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4"/>
          <p:cNvSpPr/>
          <p:nvPr/>
        </p:nvSpPr>
        <p:spPr>
          <a:xfrm rot="17529600">
            <a:off x="2819160" y="2487240"/>
            <a:ext cx="627120" cy="550800"/>
          </a:xfrm>
          <a:prstGeom prst="rightArrow">
            <a:avLst>
              <a:gd name="adj1" fmla="val 50000"/>
              <a:gd name="adj2" fmla="val 6731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642960" y="3514680"/>
            <a:ext cx="2608200" cy="11361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rovvedimenti già inseriti nel  D.Lgs. 253/’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24"/>
          <p:cNvSpPr/>
          <p:nvPr/>
        </p:nvSpPr>
        <p:spPr>
          <a:xfrm rot="14589000">
            <a:off x="5387760" y="2406240"/>
            <a:ext cx="627120" cy="551160"/>
          </a:xfrm>
          <a:prstGeom prst="rightArrow">
            <a:avLst>
              <a:gd name="adj1" fmla="val 50000"/>
              <a:gd name="adj2" fmla="val 6726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5286240" y="3300480"/>
            <a:ext cx="3286440" cy="205704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D.D.L. reca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“</a:t>
            </a: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Delega al Governo per la revisione del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strumento militare nazional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428760" y="214200"/>
            <a:ext cx="829152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700" spc="-1" strike="noStrike">
                <a:solidFill>
                  <a:srgbClr val="ffff00"/>
                </a:solidFill>
                <a:latin typeface="Arial"/>
              </a:rPr>
              <a:t>STATUS RIORDIN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ttangolo 6"/>
          <p:cNvSpPr/>
          <p:nvPr/>
        </p:nvSpPr>
        <p:spPr>
          <a:xfrm>
            <a:off x="357120" y="142884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ctr">
              <a:spcBef>
                <a:spcPts val="601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AGGIORNAMENTO PROVVEDIMENTI  AVVIATI DAL D.LGS 253/05  e </a:t>
            </a:r>
            <a:r>
              <a:rPr b="1" i="1" lang="it-IT" sz="2400" spc="-1" strike="noStrike">
                <a:solidFill>
                  <a:srgbClr val="00cc00"/>
                </a:solidFill>
                <a:latin typeface="Arial"/>
              </a:rPr>
              <a:t>ATTUA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ttangolo 7"/>
          <p:cNvSpPr/>
          <p:nvPr/>
        </p:nvSpPr>
        <p:spPr>
          <a:xfrm>
            <a:off x="1214280" y="2527200"/>
            <a:ext cx="6858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32° GrRAM Otran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34° GrRAM Siracus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28760" y="214200"/>
            <a:ext cx="829152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700" spc="-1" strike="noStrike">
                <a:solidFill>
                  <a:srgbClr val="ffff00"/>
                </a:solidFill>
                <a:latin typeface="Arial"/>
              </a:rPr>
              <a:t>STATUS RIORDIN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ttangolo 6"/>
          <p:cNvSpPr/>
          <p:nvPr/>
        </p:nvSpPr>
        <p:spPr>
          <a:xfrm>
            <a:off x="357120" y="1428840"/>
            <a:ext cx="8501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AGGIORNAMENTO PROVVEDIMENTI  AVVIATI DAL D.LGS.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(già partecipati alle OO.SS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ttangolo 7"/>
          <p:cNvSpPr/>
          <p:nvPr/>
        </p:nvSpPr>
        <p:spPr>
          <a:xfrm>
            <a:off x="1214280" y="2786040"/>
            <a:ext cx="68580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Distaccamento Aeroportuale Elma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Distaccamento Aeroportuale Brindis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11° RMV Sigonella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2° GMA Forlì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14° Deposito Centrale Moden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DAL DLGS 253/05  E ATTUAT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714240" y="2381400"/>
          <a:ext cx="7858440" cy="1984320"/>
        </p:xfrm>
        <a:graphic>
          <a:graphicData uri="http://schemas.openxmlformats.org/drawingml/2006/table">
            <a:tbl>
              <a:tblPr/>
              <a:tblGrid>
                <a:gridCol w="1627200"/>
                <a:gridCol w="1841760"/>
                <a:gridCol w="1274760"/>
                <a:gridCol w="1608120"/>
                <a:gridCol w="1506600"/>
              </a:tblGrid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 EFFETTUA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° GrRAM Otra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IN DISTACCAMENTO AM E IN Sq.R.R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già attuat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ANO DI REIMPIEGO OPERATIVO DAL 01/07/2012 nei nuovi Ed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° GrRAM Siracus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PREVISTI  DAL DLGS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755640" y="1714680"/>
          <a:ext cx="7858080" cy="2579400"/>
        </p:xfrm>
        <a:graphic>
          <a:graphicData uri="http://schemas.openxmlformats.org/drawingml/2006/table">
            <a:tbl>
              <a:tblPr/>
              <a:tblGrid>
                <a:gridCol w="1671480"/>
                <a:gridCol w="1785960"/>
                <a:gridCol w="1285920"/>
                <a:gridCol w="1571760"/>
                <a:gridCol w="154296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 GRUPPO RIFORN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STEL D’ANNONE (AT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3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 (in aspettativ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TRATTAZIONE EFFETTUATA NEL  2008.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LPERSONALE VIENE TRASFERITO ALL’ATTO DELLA CHIUSUR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GRUPPO  RIFORNIMENTI VIZZINI (S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PREVISTI  DAL DLGS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684360" y="981000"/>
          <a:ext cx="8137440" cy="4253040"/>
        </p:xfrm>
        <a:graphic>
          <a:graphicData uri="http://schemas.openxmlformats.org/drawingml/2006/table">
            <a:tbl>
              <a:tblPr/>
              <a:tblGrid>
                <a:gridCol w="1714320"/>
                <a:gridCol w="1943280"/>
                <a:gridCol w="1344600"/>
                <a:gridCol w="1622160"/>
                <a:gridCol w="1513080"/>
              </a:tblGrid>
              <a:tr h="76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° D.C. MODE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  CON RILASCIO DEL SEDIM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ANO REIMPIEGO APPROVAZIONE POLITIC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CCAMENTO AEROPORTUALE ELMA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 GRADUALE CON RILASCIO DEL SEDIM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3/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CERTAZIONE PREVISTA NOVEMBRE 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CCAMENTO AEROPORTUALE BRINDISI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DIMENSIONAMENTO DELL’ATTUALE Ed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TILE IMPIEGO NELL’EDO RIDIMENSIONA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OSTA 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9:13:27Z</dcterms:created>
  <dc:creator>smelzoe</dc:creator>
  <dc:description/>
  <dc:language>en-US</dc:language>
  <cp:lastModifiedBy>genovesea</cp:lastModifiedBy>
  <dcterms:modified xsi:type="dcterms:W3CDTF">2012-11-22T11:55:42Z</dcterms:modified>
  <cp:revision>796</cp:revision>
  <dc:subject/>
  <dc:title>Diapositiva 1</dc:title>
</cp:coreProperties>
</file>